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25B-F85F-42AC-A5A3-73088C27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BB1-F247-4547-8BB7-8123F80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218-5715-4558-AB33-2EB205F1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5F4-4814-480D-AFA7-56B8FD98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3ED-F464-4FE9-B1A8-6C71D6C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B09-4175-4A20-99FE-CAD019DE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7B3-E0B9-4EAD-A351-E9809D9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69A-37E9-4869-9D13-DCA96386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744-954B-40B9-9B83-370CA24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B99-5544-488B-8693-6F99AB3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D48-FCAA-4D96-A1CE-A1975A7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7DD-243B-4E5B-B7F0-C8FC55F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74CD-53B7-41AA-8EBD-DC35E9D5D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ASURING THE VARIABL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935440"/>
            <a:ext cx="69343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890800"/>
            <a:ext cx="7086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55308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094200"/>
            <a:ext cx="66294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162920" cy="138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795760"/>
            <a:ext cx="66294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3320" y="1951200"/>
            <a:ext cx="47880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09Z</dcterms:modified>
  <cp:revision>95</cp:revision>
  <dc:subject/>
  <dc:title>The Art in the State of the Art</dc:title>
</cp:coreProperties>
</file>